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FD4C-D757-47C4-8837-FB4542A4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EEB-AA91-4C12-B98D-A2D0384F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183-D70B-4D4B-891F-E3011451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C23B-3FB4-4697-918E-C0BC066E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EF54-E483-4690-BFD9-467038D5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931-5C8C-49B2-9E51-22DEF6E6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A9DC-142D-4577-8F7A-C824119C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521F-CD1D-40E0-A3AB-C0321EE7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D47-E1B2-4DCA-BB2E-55FD489D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7812-C3E4-4B01-940F-77114696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BE6-4EF2-45E8-9A98-AAA3CEFC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31B-2C68-4F7F-807D-2328A631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550A-86F1-4428-B3E5-FB9D68F24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Publicité pour la Saab 9-3 (DR)."/>
          <p:cNvPicPr/>
          <p:nvPr/>
        </p:nvPicPr>
        <p:blipFill>
          <a:blip r:embed="rId1"/>
          <a:stretch/>
        </p:blipFill>
        <p:spPr>
          <a:xfrm>
            <a:off x="1066680" y="1066680"/>
            <a:ext cx="7315200" cy="362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200" y="6615000"/>
            <a:ext cx="429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www.rue89.com/2008/05/07/publicite-automobile-quand-les-marques-abusent-du-v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745240" cy="6629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480" y="6615000"/>
            <a:ext cx="33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www.mon-environnement.com/affiche/1-1000/901-1000/96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96920" y="0"/>
            <a:ext cx="4978440" cy="6629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80" y="6615000"/>
            <a:ext cx="332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www.mariaportugal.net/media/logo~affiche~HLE_poster_sm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4560" y="0"/>
            <a:ext cx="4422600" cy="6629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80" y="6615000"/>
            <a:ext cx="404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www.sustenergy.org/UserFiles/File/SEE_ED_F_MAVD_070917_Affiche_BA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23920" y="0"/>
            <a:ext cx="4926240" cy="6629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20" y="6615000"/>
            <a:ext cx="325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www.mon-environnement.com/affiche/1-1000/701-800/75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76480" y="0"/>
            <a:ext cx="4768920" cy="6553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" y="6615000"/>
            <a:ext cx="262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blogs.ionis-group.com/ipsa/affiche-salon-vert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66395"/>
          <a:stretch/>
        </p:blipFill>
        <p:spPr>
          <a:xfrm>
            <a:off x="228600" y="0"/>
            <a:ext cx="8610480" cy="6616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200" y="6615000"/>
            <a:ext cx="33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bhrumeur.blog.lemonde.fr/files/2008/04/affiches.120844946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32877" r="0" b="35800"/>
          <a:stretch/>
        </p:blipFill>
        <p:spPr>
          <a:xfrm>
            <a:off x="0" y="-44280"/>
            <a:ext cx="9144000" cy="6546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00" y="6615000"/>
            <a:ext cx="33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bhrumeur.blog.lemonde.fr/files/2008/04/affiches.120844946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64297" r="0" b="0"/>
          <a:stretch/>
        </p:blipFill>
        <p:spPr>
          <a:xfrm>
            <a:off x="533520" y="0"/>
            <a:ext cx="8076960" cy="659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00" y="6615000"/>
            <a:ext cx="33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bhrumeur.blog.lemonde.fr/files/2008/04/affiches.120844946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628880" cy="6553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60" y="6615000"/>
            <a:ext cx="3144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www.plongeeonline.com/vitrineclub/affiche-dechets-petit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54200" y="0"/>
            <a:ext cx="5640480" cy="6629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80" y="6615000"/>
            <a:ext cx="359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www.mon-environnement.com/affiche/1001-2000/1101-1200/1107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3120" y="0"/>
            <a:ext cx="5991480" cy="6629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80" y="6615000"/>
            <a:ext cx="359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www.mon-environnement.com/affiche/1001-2000/1001-1100/1074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167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20" y="6615000"/>
            <a:ext cx="29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coconception.files.wordpress.com/2008/06/lafuma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5:49:05Z</dcterms:created>
  <dc:creator>Information Technology</dc:creator>
  <dc:description/>
  <dc:language>en-US</dc:language>
  <cp:lastModifiedBy>Information Technology</cp:lastModifiedBy>
  <dcterms:modified xsi:type="dcterms:W3CDTF">2009-01-08T15:58:08Z</dcterms:modified>
  <cp:revision>2</cp:revision>
  <dc:subject/>
  <dc:title>Slide 1</dc:title>
</cp:coreProperties>
</file>